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206-C2DC-4D80-BA1E-83DE2A78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A7D-5EBA-42E2-9491-11BFC9C9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B70-9996-4142-97EC-38249DEE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878-261C-4F7E-A777-BEF00449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AD4-6315-4FDE-BB24-4BCA7454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E8A-67AE-4E7B-8F03-B954D268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158-3E04-49BC-B789-78FEA580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213-E709-46E6-BE5C-0B90C25B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091-84A4-4C10-86B1-34681A29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A4F-FA26-4CE7-9B08-270D1181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D95-F337-4221-9B66-F49F4DD2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6A8-2EC6-4F32-93B4-0B45EB68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9C6C-FFC9-4F1F-BC25-9A1292A4F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PUMPED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by Com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cience 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listening to Rock n’ Roll increase  blood pres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believe that listening to Rock n’ Roll will increase blood press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3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Pressure C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Variables: Sam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Variable: Resting Heart Rate vs. Rock n’ Roll Heart RateDependent Variable: See Results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ing Heart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 n’ Roll Hear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          60 BPM                                9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ter     80 BPM                               10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ne      95 BPM                               11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hel     90 BPM                               10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i          90 BPM                               10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n     80 BPM                                85 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00:28Z</dcterms:created>
  <dc:creator>USD376</dc:creator>
  <dc:description/>
  <dc:language>en-US</dc:language>
  <cp:lastModifiedBy>STERLING  USD376</cp:lastModifiedBy>
  <dcterms:modified xsi:type="dcterms:W3CDTF">2010-02-10T15:56:39Z</dcterms:modified>
  <cp:revision>12</cp:revision>
  <dc:subject/>
  <dc:title>Game On!</dc:title>
</cp:coreProperties>
</file>